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80A-75A0-4277-B565-8E628344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ED18-3D33-4E5E-93F1-4B9B4779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246-02AF-47A6-9584-7FF027FF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B6B-9C05-4DF1-82A3-313E4C42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35F-9057-48E7-83F8-DD485704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DB4-5190-40EB-9EB1-617034D5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865-3BA2-4F96-99E3-851C727A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2BE-7B6B-484B-B90F-70209F76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22C-FB62-4D2C-ABB3-601D828F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94F6-A8CE-4C0E-A411-178B3A3C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6FA-DD96-43C2-A3DF-A26AFB38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7E2-5E06-41A0-8328-BEB9C2D5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3E1A-C408-4CDF-AB46-88C70C185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-13719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4400" spc="-1" strike="noStrike">
                <a:solidFill>
                  <a:srgbClr val="ff3300"/>
                </a:solidFill>
                <a:latin typeface="Arial"/>
              </a:rPr>
              <a:t>التنف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000" spc="-1" strike="noStrike">
                <a:solidFill>
                  <a:srgbClr val="ff3300"/>
                </a:solidFill>
                <a:latin typeface="Arial"/>
              </a:rPr>
              <a:t>1-</a:t>
            </a:r>
            <a:r>
              <a:rPr b="0" lang="ar-MA" sz="2000" spc="-1" strike="noStrike">
                <a:solidFill>
                  <a:srgbClr val="ff3300"/>
                </a:solidFill>
                <a:latin typeface="Arial"/>
              </a:rPr>
              <a:t>تحليل الموضوع</a:t>
            </a:r>
            <a:r>
              <a:rPr b="0" lang="ar-MA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الهدف: إبراز التبادلات الغازية التنفسية عند الإنسان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.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الفءة المستهدفة:-الاولى إعدادي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المضمون : -يتعرف المتعلم عن طرح ثناءي اكسيد الكربون في الهواء المتزفر من خلال تجربة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يتعرف المتعلم عن اخد الأكسجين من هواء الشهيق من خلال مناولة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يستنتج حدوت تبادلات غازية تنفية بين الإنسان ووسط عيشه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الإنسان                         وسط العيش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الوسط:   حجرة القسم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الوساءل : أدواة مخبرية -  وثاءق الكتاب المدرسي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-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3809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8092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4400" spc="-1" strike="noStrike">
                <a:solidFill>
                  <a:srgbClr val="000000"/>
                </a:solidFill>
                <a:latin typeface="Arial"/>
              </a:rPr>
              <a:t>جدول</a:t>
            </a:r>
            <a:r>
              <a:rPr b="0" lang="ar-M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5800" y="1371600"/>
          <a:ext cx="8458200" cy="497664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600200"/>
                <a:gridCol w="3429000"/>
              </a:tblGrid>
              <a:tr h="76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كاشف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يلم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لخص  أو صورة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فهرس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كاشف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دخل علمي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كاشف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كاشف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براز التبادلات الغازية التنفسية بين الكاءن الحي ووسط عيشه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جربة الكشف عن طرح تناءي اكسيد الكربون في هواء الزفير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ستنتاج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: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ناولة الكشف عن أخد  الأكسجين من الهواء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ستنتاج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: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كاشف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صيلة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1447920" y="2819520"/>
            <a:ext cx="75960" cy="7596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4400" spc="-1" strike="noStrike">
                <a:solidFill>
                  <a:srgbClr val="000000"/>
                </a:solidFill>
                <a:latin typeface="Arial"/>
              </a:rPr>
              <a:t>الكاشف </a:t>
            </a:r>
            <a:r>
              <a:rPr b="0" lang="ar-MA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400" spc="-1" strike="noStrike">
                <a:solidFill>
                  <a:srgbClr val="000000"/>
                </a:solidFill>
                <a:latin typeface="Arial"/>
              </a:rPr>
              <a:t>يتنفس الإنسان في الوسط الهواءي حيث يأخد منه الأكسجين ويطرح فيه ثناءي أكسيد الكربون</a:t>
            </a:r>
            <a:r>
              <a:rPr b="0" lang="ar-M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400" spc="-1" strike="noStrike">
                <a:solidFill>
                  <a:srgbClr val="ff3300"/>
                </a:solidFill>
                <a:latin typeface="Arial"/>
              </a:rPr>
              <a:t>فكيف يتم إبراز التبادلات الغازية التنفسية بين الإنسان ووسط عيشه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4400" spc="-1" strike="noStrike">
                <a:solidFill>
                  <a:srgbClr val="000000"/>
                </a:solidFill>
                <a:latin typeface="Arial"/>
              </a:rPr>
              <a:t>الكاشف </a:t>
            </a:r>
            <a:r>
              <a:rPr b="0" lang="ar-MA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3200" spc="-1" strike="noStrike">
                <a:solidFill>
                  <a:srgbClr val="000000"/>
                </a:solidFill>
                <a:latin typeface="Arial"/>
              </a:rPr>
              <a:t>يطرح اللإنسان في الهواء الزفير  تناءي أكسيد الكربون ويأخد من الهواء الأكسجين ,</a:t>
            </a:r>
            <a:r>
              <a:rPr b="0" lang="ar-MA" sz="3200" spc="-1" strike="noStrike">
                <a:solidFill>
                  <a:srgbClr val="ff3300"/>
                </a:solidFill>
                <a:latin typeface="Arial"/>
              </a:rPr>
              <a:t>نقول أنه تحدت تبادلات غازية</a:t>
            </a:r>
            <a:r>
              <a:rPr b="0" lang="ar-MA" sz="3200" spc="-1" strike="noStrike">
                <a:solidFill>
                  <a:srgbClr val="000000"/>
                </a:solidFill>
                <a:latin typeface="Arial"/>
              </a:rPr>
              <a:t> تنفسية بين الإنسان ووسط عيشه</a:t>
            </a:r>
            <a:r>
              <a:rPr b="0" lang="ar-M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3200" spc="-1" strike="noStrike">
                <a:solidFill>
                  <a:srgbClr val="000000"/>
                </a:solidFill>
                <a:latin typeface="Arial"/>
              </a:rPr>
              <a:t>.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mid</cp:lastModifiedBy>
  <dcterms:modified xsi:type="dcterms:W3CDTF">2010-10-26T07:39:5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